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CCEDB-3E83-4061-9FA4-F8085247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0851A-2629-4038-AC07-62C9665B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9E6F7-BB59-4DD7-ADD7-3DFA4B5C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80ADE-6A79-409A-8158-32DB1E35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B174-9465-474C-9429-B15E82C0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85BF-477D-47AF-A219-5C7DA0EA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FE16-9412-4790-84D1-A0ECD448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2592-656A-467A-AB2E-C743EE12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8CC6-6835-4CE1-A176-5AEDE2E3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4A45-C6B6-4C14-A995-60B786EB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32EC-3E28-4506-A444-DD6D3630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52DD0-A715-4D04-9CB6-1C28EBAC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DD15-D365-42C3-A65B-B1872280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E38B-A00D-4ED9-BCE7-F98303DE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7C89-34BB-4B7C-8CB1-5772BE84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17A9-04C0-452C-8ABF-A267F385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7FE9-B460-4DA7-9404-34E106F2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68F3E-B3B6-4E62-B048-FC7EF326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13597-1587-49B9-9B56-FF417EFD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C69DA-2C4B-4BB6-9DC7-0C0FEF08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CC7B7-942F-4C2F-BDDF-4E6951DE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C97D5-5088-427F-8013-743C4F32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15D7D-8F18-40BE-8150-8917140E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F566A-659C-4FA3-9943-ACED57E9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BD6E-4F13-4686-B33D-1BA887DAC2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28E4-B683-4A26-B4D8-9ACF4E16E5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Fallac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een common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Fall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egative form, called “damning the origin”; in positive form, could be called “blessing the origin,” a kind of appeal to autho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argument to abstain from recreational drugs makes you sound like Nancy Rea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So?  Whatever you think of the former First Lady, an argument is neither right nor wrong for her—or for anyone’s—espous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gnoratio elenc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attempting to demonstrate one thesis while in fact demonstrating a different, irrelevant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shall prove Christianity to be true by showing that human beings are immoral without belief in a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While belief in a God may have moral effects, it does nothing to show whether Christianity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ded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A, loaded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an attempt to bias the audience by the use of words chosen for their strong connotativ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rorists” or “freedom-fighters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gime” or “government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an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arguing that because it hasn’t been done or thought of before that it must be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 to 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gumentum ad antiquita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ppeal to trad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ok, none of our scientists have ever even considered this theory before; if it were right, they would have thought of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Isaac Newton never imagined the Internet,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making an issue more simple than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ok, the only way to solve child-behavior problems is to spank your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Even supposing spanking does work, what about talking to your children?  Spending quality time with them?  Seeing to it that they are involved in significant ways with their peers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soning the w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of the ad homi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casting doubt, aspersions or some other pall over an argument by creating negative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rgeo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rgument that people should be free to pursue private interes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“Bourgeois” is used in an abusive way to make what comes next sound bad; it has nothing to do with the argu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ndum q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, hasty gene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coming to a conclusion based on scanty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went out with three women, and they all dumped me.  I must not be attractive to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Keep up that kind of thinking, and you’re bound to be unlucky in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phib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it’s related to “amphibia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a phrase or sentence that may have more than one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just can’t say enough good about this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is mea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’s just nothing good to say about this person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son’s merits are so high they defy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ulum, argumentum 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, th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issuing threats of force or violence to win agreement instead of by the weight of the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you don’t join my church, you’re going to go to 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Perhaps so, but this doesn’t really help me in my delib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fur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, false dicho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limiting choices to only two when there are more option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’re either with America, or you’re with the terror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One may not necessarily agree with either party or its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reasoning that what is true of the parts must be true of the w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 of fallacy of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basketball team has five all-stars in its starting line up.  They’ll be sure to 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Not so fast.  Each player may be a prima donna who doesn’t “play well with oth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mning the alternative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claiming one argument to be right because an opposing argument is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 other reasons have been shown wrong; this one must be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This one could be incorrect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other reasons have been wrong may be reason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ne, but not to accept it as correct without delib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assuming that what is true of the whole is true of the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s fallacy of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e went to Oxford.  She must be exceptionally brill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Not necessarily.  While Oxford may have many smart people in its halls and on the whole be a smart place, it doesn’t mean this pers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v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using the same words in more than one sense within the same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candy bar is better than nothing.  Nothing is better than love.  So, a candy bar is better than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“Nothing” is being used in two different senses, so the conclusion cannot follow from the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al pru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“pruning” meaning from a word’s generally accepted usage in order to save 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know I told you I’d buy you a drink.  I just got you a s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the commonly understood sense of the term would mean an alcoholic drink; the arguer is relying on the word’s multiple meanings to weasel his way out of a prom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5:42:44Z</dcterms:created>
  <dc:creator>csclab</dc:creator>
  <dc:description/>
  <dc:language>en-US</dc:language>
  <cp:lastModifiedBy>csclab</cp:lastModifiedBy>
  <dcterms:modified xsi:type="dcterms:W3CDTF">2009-09-13T07:12:17Z</dcterms:modified>
  <cp:revision>19</cp:revision>
  <dc:subject/>
  <dc:title>Logical Fallacies</dc:title>
</cp:coreProperties>
</file>